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wmf" ContentType="image/x-wmf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32.jpeg" ContentType="image/jpeg"/>
  <Override PartName="/ppt/media/image20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FD6-211A-4C7D-98B2-BA6321F0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1E2-1E62-445D-A1D3-363FCFE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785-163A-46A9-8096-CC89276B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E7A-B524-437F-BBCC-A26A8CEE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82C-B7E1-4DB4-9997-E8CB15E9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F803-2A42-46D1-BFC8-3064237D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6897-FB33-4C34-95DB-6F90C1E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A42-811C-4128-8021-F86F633D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1EE2-3405-4CDE-967D-F0118444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5EC9-6CC7-4C30-AD36-65B12A7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9147-0E03-4DD0-B60E-8CECE924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54A-6EDF-4645-90FE-05F5CBD7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2DD4-0BC1-472E-9AAC-68B7312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A44-F61D-4352-9A24-A6D2F89D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4B24-D2EB-498A-9A9A-40195AE3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E4A0-1D34-4663-AB72-73B54D8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769-0863-4EEE-AD3E-84DAA130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151-91B7-4041-AAE1-F158E9F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4E9-3EE6-44F3-91E2-378A6A3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4B4-135B-4227-8FAE-005BEF6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576-AB6E-49A3-983C-6457B1E1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F20-CC23-4C30-80AD-29B2016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CA5-C053-47B8-84C5-459BCF8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89D-D1CA-4961-B305-B06BF9C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777-A2F4-4F86-BDFA-5AA4728544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AA6B-288F-427D-8AD8-0D368068737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polyglot.lss.wisc.edu/dare/Audio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opvssoda.com/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Religion and Where in the World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astern Orthodo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tv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Latvia-Eastern Orthodox chu.jpg                                001223B2Macintosh HD                   BCE2C55A:"/>
          <p:cNvPicPr/>
          <p:nvPr/>
        </p:nvPicPr>
        <p:blipFill>
          <a:blip r:embed="rId3"/>
          <a:stretch/>
        </p:blipFill>
        <p:spPr>
          <a:xfrm>
            <a:off x="4159080" y="1598760"/>
            <a:ext cx="3362400" cy="449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-2349360" y="2882880"/>
            <a:ext cx="65404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905120" y="452520"/>
            <a:ext cx="5715000" cy="5952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12760" y="652320"/>
            <a:ext cx="15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your copy outline with hi-liter countries that speak Swahil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962000" y="380880"/>
            <a:ext cx="5734080" cy="5972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76320" y="609480"/>
            <a:ext cx="1996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n the left page of your notebook Colonial Chloropleth language map of Africa- Color the countries the following colo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rench- Blu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glish - Red Portuguese- Yellow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alian- Green, Spanish - Orange -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inguistic Culture Reg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Diff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Ec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lturo-Linguistic Integr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Landscap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isoglosses —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rders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 individual word usages or pronuncia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 two words, phrases, or pronunciations have exactly the same spatial distribu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atially isoglosses crisscross one anothe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ypically cluster together in “bundles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undles serve as the most satisfactory dividing lines among dialects and languag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F05-01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alects reveal a vivid geograph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erican English is hardly uniform from region to reg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least three major dialects, corresponding to major culture regions, developed in the eastern United States by the time of the American Revolu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rther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id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er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F05-04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27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762120" y="63244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ialect Activity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polyglot.lss.wisc.edu/dare/Audio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three subcultures expanded westward and their dialects spread and fragment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ained much of their basic character even beyond the Mississippi Ri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distinctive vocabularies and pronunciation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awing dialect boundaries is often trick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F05-05"/>
          <p:cNvPicPr/>
          <p:nvPr/>
        </p:nvPicPr>
        <p:blipFill>
          <a:blip r:embed="rId1"/>
          <a:stretch/>
        </p:blipFill>
        <p:spPr>
          <a:xfrm>
            <a:off x="1424160" y="0"/>
            <a:ext cx="62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day, many regional words are becoming old-fashioned, but new words display regional vari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ollowing words are all used to describe a controlled-access divided highw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reeway — a California wor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urnpike and parkway — mainly northeastern and Midwestern wor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ruway, expressway, and intersta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F05-00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160164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22960" y="5257440"/>
            <a:ext cx="2921040" cy="167652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Human Mosa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ny African-Americans speak their own form of English — Black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nce dismissed as inferior substandard Englis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rew out of a pidgin that developed on early slave planta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oday, spoken by about 80 percent of African-America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d by ghetto dwellers who have not made their compromises with mainstream American cul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ny features separate it from standard speech, for exampl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ack of pronoun differentiation between gender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se of undifferentiated pronou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ny African-Americans speak their own form of English — Black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t recognized as part of the proper grammar of a separate linguistic group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sidered evidence of verbal inability or impoverishm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the Southern dialect, African-Americans have made substantial contributions to spee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ern dialect is becoming increasingly identified with African-America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ucasians in the Southern region are shifting to Midland spee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merican dialects suggest we are not becoming a more national culture by overwhelming regional cult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nguistic divergence is still under w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alects continue to mutate on a regional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cal variations in grammar and pronunciation prolifer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homogenizing influence of radio, television, and other mass media is being defi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-7668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 vs Soda  </a:t>
            </a: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http://www.popvssoda.com/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-457200" y="934920"/>
            <a:ext cx="9829800" cy="5923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0" y="5943600"/>
            <a:ext cx="2666880" cy="91692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hat Patterns can you identify? Why do they exist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26" descr="F05-03L"/>
          <p:cNvPicPr/>
          <p:nvPr/>
        </p:nvPicPr>
        <p:blipFill>
          <a:blip r:embed="rId1"/>
          <a:stretch/>
        </p:blipFill>
        <p:spPr>
          <a:xfrm>
            <a:off x="1166760" y="0"/>
            <a:ext cx="68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F05-03b"/>
          <p:cNvPicPr/>
          <p:nvPr/>
        </p:nvPicPr>
        <p:blipFill>
          <a:blip r:embed="rId1"/>
          <a:stretch/>
        </p:blipFill>
        <p:spPr>
          <a:xfrm>
            <a:off x="533520" y="138240"/>
            <a:ext cx="8153280" cy="66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5-2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86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851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ile English is spoken in many parts of the world, all English words are not mutually intelligibl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London tube (subway) sign say that anyone performing there (eg singing or playing for money) is subject to a fine of subsec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re tubes, subway, and busking dialect word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10" descr="5-2"/>
          <p:cNvPicPr/>
          <p:nvPr/>
        </p:nvPicPr>
        <p:blipFill>
          <a:blip r:embed="rId4"/>
          <a:stretch/>
        </p:blipFill>
        <p:spPr>
          <a:xfrm>
            <a:off x="4495680" y="2441520"/>
            <a:ext cx="464832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Culture Reg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inguistic Diff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Ec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lturo-Linguistic Integr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Landscap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do-Europe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arliest speakers apparently lived in southern and southeastern Turkey (Anatolia) about eight or nine thousand years ag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ffused west and north into Euro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presented expansion of farming people at expense of hunters and gather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people dispersed and lost contact, different variant forms of the language caused fragmentation of th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hy geographers study languag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vides the single most common variable by which cultural groups are identifi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vides the main means by which learned customs and skills pass from one generation to the nex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cilitates cultural diffusion of innov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cause languages vary spatially, they reinforce the sense of region and pla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of language called linguistic geography and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geolinguistic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 geograph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do-Europe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ter language diffusion occurred with the spread of great political empires, especially Latin, English, and Russ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location and expansion diffusion were not mutually exclus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location diffusion by conquering elite implanted their langu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mplanted language often gained wider acceptance by expansion diffu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queror’s language spread hierarchical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pread of Latin with Roman conques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panish in Latin Amer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esumed hearth in the interior of Southeast Asia 5,000 years a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itially spread southward into the Malay Peninsul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a process lasting several thousand years, people sailed in tiny boats across the. uncharted vast seas to New Zealand, Easter Island, Hawaii, and Madagasc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iling and navigation was the key to Austronesian spread, not agricul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F05-06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remarkable diffusion of the Polynesian peo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rm the eastern part of the Austronesian culture reg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ccupy hundreds of Pacific islands in a triangular-shaped real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ew Zealand, Easter Island, and Hawaii form the three apexes of the realm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ade a watery leap of 2,500 miles from the South Pacific to Hawai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sed outrigger cano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ent against prevailing winds into a new hemisphere with different navigational sta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o humans had previously found the isolated Hawaiian Island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ailors had no way of knowing that land existed in the are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F05-07"/>
          <p:cNvPicPr/>
          <p:nvPr/>
        </p:nvPicPr>
        <p:blipFill>
          <a:blip r:embed="rId1"/>
          <a:stretch/>
        </p:blipFill>
        <p:spPr>
          <a:xfrm>
            <a:off x="762120" y="65160"/>
            <a:ext cx="761976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eographers John Webb and Gerard Ward studied the prehistoric Polynesian diffus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ir method involved the development of a computer model building in data on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i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cean curren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essel traits and capabiliti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sland visibilit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uration of voyage, etc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oth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drift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navigated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oyages were consider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ver one hundred thousand voyage simulations were run through the comput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ir conclus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riangle was probably entered from the west—direction of the ancient Austronesian hearth are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sland hopping”—migrated from one visible island to anoth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re of eastern Polynesia likely reached by navigated voyag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uter arc from Hawaii through Easter Island to New Zealand reached by intentionally navigated voyag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F05-07"/>
          <p:cNvPicPr/>
          <p:nvPr/>
        </p:nvPicPr>
        <p:blipFill>
          <a:blip r:embed="rId1"/>
          <a:stretch/>
        </p:blipFill>
        <p:spPr>
          <a:xfrm>
            <a:off x="838080" y="131760"/>
            <a:ext cx="75438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earching for the primordial tongu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ing controversial techniques, linguists seek the more elusive prehistoric tongu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Nostratic—ancestral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eech of the Middle East 12,000 to 20,000 years ag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cestral to nine modern language familie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 500-word dictionary has been compil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emporary with Nostratic were other ancient tongues including Dene-Caucasi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F05-06"/>
          <p:cNvPicPr/>
          <p:nvPr/>
        </p:nvPicPr>
        <p:blipFill>
          <a:blip r:embed="rId1"/>
          <a:stretch/>
        </p:blipFill>
        <p:spPr>
          <a:xfrm>
            <a:off x="914400" y="-11160"/>
            <a:ext cx="73152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8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erms used in the study of languag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Language —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ngues that cannot be mutually understoo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Dialects —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ariant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s of a language that have not lost mutual comprehens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speaker of English can understand the various dialect of the langu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dialect is distinctive enough in vocabulary and pronunciation to label its speak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me 6,000 languages and many more dialects are spoken toda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earching for the primordial tongu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ne-Caucasian reputedly gave rise to Sino-Tibetan, Basque, and one form of early Native-American called Na-De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olars are attempting to find the original linguistic hearth area from which all modern languages have deriv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s believed the original language hearth arose in Africa perhaps 250,000 years ago and diffused from the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Culture Reg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Diff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inguistic Ec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lturo-Linguistic Integr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Landscap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and vocabulary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he environment affects vocabula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anish language derived from Casti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ich in words describing rough terrain (Table 5.3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stinguishes subtle differences in shape and configuration of mountai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cottish Gael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escribes types of rough terr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mmon attribute spoken by hill peo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omanian tong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lso from a region of rugged terr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ords tend to be keyed to use of terrain for livestock her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and vocabulary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veloped in wet coastal plai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ery poor in words describing mountainous terr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ounds with words describing flowing strea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ural American South—river, creek, branch, fork, prong, run, bayou, and sloug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F05-08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and vocabulary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ocabularies develop for features of the environment that involve liveliho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tailed vocabularies are necessary to communicate sophisticated information relevant to the adaptive strate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provides refug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hospitable environments offer protection and isol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rovide outnumbered linguistic groups refuge from aggressive neighbo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nguistic refuge are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ugged bill and mountain area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xcessively cold or dry climat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mpenetrable forests and remote isla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xtensive marshes and swam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pleasant environments rarely attract conquero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untains tend to isolate inhabitants of one valley from anoth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amples of linguistic refuge area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ugged Caucasus Mountains and nearby ranges in central Eurasia are populated by a large variety of peopl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ps, Himalayas, and highlands of Mexico are linguistic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shatter belts — area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re diverse languages are spok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erican Indian tongue Quechua clings to a refuge in the Andes Mountains of South Americ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the Rocky Mountains of northern New Mexico, an archaic form of Spanish survives due to isolation that ended in the early 1900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F05-09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amples of linguistic refuge area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Dhofar, a mountain tribe in Oman, preserve Hamitic speech that otherwise has vanished from As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undra climates of the far north have sheltered certain Uralic, Altaic, and Inukitut (Eskimo) speak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n Sea Islands, off the coast of South Carolina and Georgia, some remnant of an African language, Gullah, still are spoke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7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erms used in the study of languag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676160"/>
            <a:ext cx="743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Pidgin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guage — results when different linguistic groups come into contac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rves the purposes of commerc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s a small vocabulary derived from the various contact grou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MT"/>
              </a:rPr>
              <a:t>Speakers of different languages need to communicate but don't share a common languag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fficial language of Papua, New Guinea is a largely English-derived pidgin language, which includes Spanish, German, and Papuan wor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panglis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witzer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witzerland has four recognized national languages: French, German, Italian, and Romansch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omansch, a language of Latin origin, is spoken by only 1.1% of the popul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4" name="Picture 7" descr="5-4"/>
          <p:cNvPicPr/>
          <p:nvPr/>
        </p:nvPicPr>
        <p:blipFill>
          <a:blip r:embed="rId3"/>
          <a:stretch/>
        </p:blipFill>
        <p:spPr>
          <a:xfrm>
            <a:off x="345960" y="1219320"/>
            <a:ext cx="38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witzer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vertheless, it has survived in the alp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linguistic refug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the upper Rhine and Inn Rivers and was given official recognition in 1938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7" name="Picture 4" descr="5-4"/>
          <p:cNvPicPr/>
          <p:nvPr/>
        </p:nvPicPr>
        <p:blipFill>
          <a:blip r:embed="rId2"/>
          <a:stretch/>
        </p:blipFill>
        <p:spPr>
          <a:xfrm>
            <a:off x="345960" y="1219320"/>
            <a:ext cx="38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witzer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traditional Engadine (Inn valley) house is decorated by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sgraffit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whereby designs are scratched through a white limewash coating to expose the underlying grey plast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4" descr="5-4"/>
          <p:cNvPicPr/>
          <p:nvPr/>
        </p:nvPicPr>
        <p:blipFill>
          <a:blip r:embed="rId2"/>
          <a:stretch/>
        </p:blipFill>
        <p:spPr>
          <a:xfrm>
            <a:off x="345960" y="1219320"/>
            <a:ext cx="38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nguistic Ecolog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day environmental isolation is no longer the linguistic force it once w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hospitable lands and islands are reachable by airplan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shes and forests are being drained and cleared by farm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world is interac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grants were often attracted to new lands that seemed environmentally similar to their homeland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y could pursue adaptive strategies known to the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ermanic Indo-Europeans chose familiar temperate zones in America, New Zealand, and Austral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mitic peoples rarely spread outside arid and semiarid climat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cestors of modern Hungarians left grasslands of inner Eurasia for new homes in the grassy Alföld, one of the few prairie areas of Europ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vironmental barriers and natural routeways guided linguistic groups along certain pat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do-Europeans traveled through low mountain passes to the Indian subcontinent, avoiding the Himalayas and barren Deccan Platea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India today, the Indo-European/Dravidian language boundary seems to approximate an ecological bounda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untain barriers frequently serve as linguistic bord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part of the Alps, speakers of German and Italian live on opposite sides of a major rid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rtions of mountain rim along the northern edge of the Fertile Crescent form the border between Semitic and Indo-European tongu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borders that follow such physical features tend to be stable and endure for thousands of yea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borders that cross plains and major routes of communication are frequently unstable — Germanic-Slavic boundary on the North European Pla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verlap of languages complicates drawing of linguistic bord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any given area more than one tongue may be spoken — Ecuad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barriers are rarely shar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F05-02"/>
          <p:cNvPicPr/>
          <p:nvPr/>
        </p:nvPicPr>
        <p:blipFill>
          <a:blip r:embed="rId1"/>
          <a:stretch/>
        </p:blipFill>
        <p:spPr>
          <a:xfrm>
            <a:off x="1471680" y="0"/>
            <a:ext cx="62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erms used in the study of languag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56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Lingua franca —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 language that spreads over a wide area where it is not the mother tong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language of communication and commerc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wahili language has this status in much of East Afri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 is Lingua franca of international business world-w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Geographers encounter a core/periphery pattern rather than a dividing lin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ominance of language diminishes away from the center of the regi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Outlying zone of bilingu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inguistic “islands” often further complicate the drawing of language borde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6" name="Picture 4" descr="F05-02"/>
          <p:cNvPicPr/>
          <p:nvPr/>
        </p:nvPicPr>
        <p:blipFill>
          <a:blip r:embed="rId5"/>
          <a:stretch/>
        </p:blipFill>
        <p:spPr>
          <a:xfrm>
            <a:off x="4025880" y="1627200"/>
            <a:ext cx="3624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18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alect terms often overlap considerably, making it difficult to draw isogloss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nguistic geographers often disagree about how many dialects are pres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sagreement also occurs on where lines should be draw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undaries are necessarily simplified and at best generaliz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Indo-European languag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argest most wide-spread fami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poken on all contin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minant in Europe, Russia, North and South America, Australia, and parts of southwestern Asia and Ind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ubfamilies—Romance, Slavic, Germanic, Indic, Celtic, and Irani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ubfamilies are divided into individual languag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ven Indo-European tongues are among the top 10 languages spoken in the world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y comparing vocabularies in various languages one can see the kinship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The Afro-Asiatic family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s two major divisions—Semitic and Hamiti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mitic covers the area from Tigris-Euphrates valley westward through most of the north half of Africa to the Atlantic co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omain is large but consists of mostly sparsely populated deser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rabic is the most widespread Semitic languag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rabic has the most number of native speakers—about 186 mill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brew was a “dead” language used only in religious ceremoni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day Hebrew is the official language of Isra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mharic a third major Semitic tongues has 20 million speakers in the mountains of East Afr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Afro-Asiatic famil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Has two major divisions—Semitic and Hamiti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Smaller number of people speak Hamitic languag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hare North and East Africa with Semitic speake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poken by the Berbers of Morocco and Alger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poken by the Tuaregs of the Sahara and Cushites of East Afric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Originated in Asia but today only spoken in Afric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xpansion of Arabic decreased the area and number of speake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frica south of the Sahara Desert is dominated by the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Niger-Cong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oken by about 200 million peo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eater part of the Niger-Congo culture region belongs to the Bantu subgroup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ludes Swahili—the lingua franca of East Afr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ltaic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cludes Turkic, Mongolic, and several other subgrou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meland lies largely in deserts, tundras, and coniferous forests of northern and central As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ralic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innish and Hungarian are the two most important tongu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oth have official status in their countr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ustronesian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st remarkable language family in terms of distribu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peakers live mainly on tropical islan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nges from Madagascar, through Indonesia and the Pacific Islands, to Hawaii and Easter Is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gitudinal span is more than half way around the worl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atitudinally, ranges from Hawaii and Taiwan in the north to New Zealand in the sout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argest single language in this family is Indonesian —5O million speaker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st widespread language is Polynesi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Sino-Tibetan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e of the major language familie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tends throughout most of China and Southeast As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n Chinese is spoken in a variety of dialects as a mother tongue by 836 million peo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n serves as the official form of speech in Chi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Japanese/Korean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other major Asian family with nearly 200 million speak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ems to have some kinship to both the Altaic and Austrones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5-3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n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Austro-Asiatic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und in Southeast Asia, Vietnam, Cambodia, Thailand, and spoken by some tribal people of Malaya and parts of Ind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ccupies a remnant peripheral do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s been encroached upon by Sino-Tibetan, Indo-European, and Austrones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ccupy refuge areas after retreat before rival grou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hoisan — found in the Kalahari Desert of southwestern Africa, characterized by clicking sou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ravidian — spoken by numerous darker-skinned people of southern India and northern Sri Lank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thers include — Papuan, Caucasic, Nilo-Saharan, Paleosiberian, Inukitut, and a variety of Amerindia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Basque — spoken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n the borderland between Spain and France is unrelated to any other language in the worl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5-1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5-1"/>
          <p:cNvPicPr/>
          <p:nvPr/>
        </p:nvPicPr>
        <p:blipFill>
          <a:blip r:embed="rId1"/>
          <a:stretch/>
        </p:blipFill>
        <p:spPr>
          <a:xfrm>
            <a:off x="0" y="226692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display of newspapers illustrates the fact that London is an international city as well as a major migration destina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South Kensington, sizable foreign contribute complex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5-1"/>
          <p:cNvPicPr/>
          <p:nvPr/>
        </p:nvPicPr>
        <p:blipFill>
          <a:blip r:embed="rId1"/>
          <a:stretch/>
        </p:blipFill>
        <p:spPr>
          <a:xfrm>
            <a:off x="0" y="2266920"/>
            <a:ext cx="4343400" cy="28465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 the linguistic landscap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th Indo-European (e.g. French, Spanish and Swedish) and Afro-Asiatic (Arab) language families are represented he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5-3"/>
          <p:cNvPicPr/>
          <p:nvPr/>
        </p:nvPicPr>
        <p:blipFill>
          <a:blip r:embed="rId1"/>
          <a:stretch/>
        </p:blipFill>
        <p:spPr>
          <a:xfrm>
            <a:off x="4495680" y="1822320"/>
            <a:ext cx="4648320" cy="3022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n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4156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enya has two official languages: Swahili and English.  These lingua franca facilitate communication among Bantu, Nilotic, and Cushitic language speake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wahili developed along the coast of East Africa where Bantu came in contact with Arabic spoken by Arab sea trader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position"/>
          <p:cNvPicPr/>
          <p:nvPr/>
        </p:nvPicPr>
        <p:blipFill>
          <a:blip r:embed="rId4"/>
          <a:stretch/>
        </p:blipFill>
        <p:spPr>
          <a:xfrm>
            <a:off x="4495680" y="228600"/>
            <a:ext cx="2241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5-3"/>
          <p:cNvPicPr/>
          <p:nvPr/>
        </p:nvPicPr>
        <p:blipFill>
          <a:blip r:embed="rId1"/>
          <a:stretch/>
        </p:blipFill>
        <p:spPr>
          <a:xfrm>
            <a:off x="4495680" y="380880"/>
            <a:ext cx="4648320" cy="3022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n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44792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 became important during the British colonial period and is still associated with high statu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shopping center caters to Maasai herders who speak a Nilotic language and Kikuyu farmers who speak a Bantu languag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ambo means “hello” in Swahili.-&gt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5"/>
          <a:stretch/>
        </p:blipFill>
        <p:spPr>
          <a:xfrm>
            <a:off x="4495680" y="3124080"/>
            <a:ext cx="33022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19:34:53Z</dcterms:created>
  <dc:creator>Dr Raymond L Sanders Jr</dc:creator>
  <dc:description/>
  <dc:language>en-US</dc:language>
  <cp:lastModifiedBy>Hans Lunow</cp:lastModifiedBy>
  <cp:lastPrinted>2006-12-05T21:01:31Z</cp:lastPrinted>
  <dcterms:modified xsi:type="dcterms:W3CDTF">2009-12-09T14:08:44Z</dcterms:modified>
  <cp:revision>134</cp:revision>
  <dc:subject/>
  <dc:title>The Mosaic of Languages</dc:title>
</cp:coreProperties>
</file>